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4E0-A509-4C22-8D6E-FB66E549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697D-881C-45AB-8AC4-60F7C6E2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003-DB57-449D-A0CD-3059F886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73E-4DA7-4218-8097-500FA7D1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49C-69D6-4BFA-B5CB-8911D29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5E1-9CD3-4BA7-A410-0F5161A0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221-4C6C-4EB1-A047-1F75C4A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D03-A057-4709-8EC6-DAB33FB5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5B1D-72D6-4251-89D6-3B261CD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3D7-8F43-4480-BE35-4361C467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F4C-95FB-4BD3-92C3-E610ADF7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E05-1309-4DD8-80CD-DCE63A9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6049-CB27-4A7B-B155-BB9803DD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Prom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nosaur was our new student to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bout his adventures in school as a new 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to include at least 5 de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4740" r="0" b="0"/>
          <a:stretch/>
        </p:blipFill>
        <p:spPr>
          <a:xfrm>
            <a:off x="4876920" y="1676520"/>
            <a:ext cx="36986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4:08:37Z</dcterms:created>
  <dc:creator>fcps</dc:creator>
  <dc:description/>
  <dc:language>en-US</dc:language>
  <cp:lastModifiedBy>fcps</cp:lastModifiedBy>
  <dcterms:modified xsi:type="dcterms:W3CDTF">2007-09-05T14:08:52Z</dcterms:modified>
  <cp:revision>1</cp:revision>
  <dc:subject/>
  <dc:title>Writing Prompt</dc:title>
</cp:coreProperties>
</file>